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00A-A54E-41E9-80F3-5C804762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DCF-0D4E-4F56-ABFE-6C980C6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48C-2E5A-42CC-A258-473BA59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C19-11D6-4F5A-BF4C-4EC45C7A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CD6-BC34-416D-8175-50B80A1F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0D9-0A92-4595-9B47-7319239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AEF-D536-4F80-869D-F103D8C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335-5156-4C81-9784-3BC64FC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FBBB-58F7-49D0-9515-A8380596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BE4C-E1BF-4720-84CA-98C4F03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66E-B409-4E12-A24D-CA3A9B5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6CE-DB60-423C-A348-83CE716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219-D5D1-4844-A25B-2D03EC8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9563-4E1D-49AB-876B-666C438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F4A-9FCB-4396-88DA-E52A9550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FA0-7EF2-421F-932B-CA24AD9B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38A-4345-44A5-8A7C-508E55BF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B34-EC29-45B5-B9ED-C42DDBC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158-4EF2-48AD-BBF3-D6B73DC3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3D-D485-40EA-8EC6-AB45532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3D3-33A9-4AD5-A161-DE0CB6F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0E7-8E62-4B75-8F86-CB3A27A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D5B-2047-4117-B3B6-EFD2760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8D9-EB50-482B-93A5-5123ED9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FBDF-E411-4108-B217-8EF6C23755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F24B-EFB0-40BE-A268-7EDA92E25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phi-pi.org/b2b/pics/Aluminum_Alloy_Nonstick_Frying_Pan_with_Lid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/imgres?imgurl=http://www.naturalhomemagazine.com/uploadedImages/marketing/RecycledGlass11ServingPlate.jpg&amp;imgrefurl=http://www.naturalhomemagazine.com/shopping/browse.aspx%3Fsubject%3DNHP&amp;usg=__yS-f-mY4XXCOODWlQ19IeS1dbjk=&amp;h=640&amp;w=960&amp;sz=45&amp;hl=en&amp;start=47&amp;um=1&amp;tbnid=1gKBySz1db0PgM:&amp;tbnh=99&amp;tbnw=148&amp;prev=/images%3Fq%3Dglass%26ndsp%3D20%26hl%3Den%26rls%3Dcom.microsoft:en-us%26sa%3DN%26start%3D40%26um%3D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crobike.de/en/werbemittel_bilder/branders/2200/16339.jpg&amp;imgrefurl=http://www.crobike.de/en/store/category_detail.php%3Fkat%3DMugsDrinkware%26country%3DWorldwide%26will%3DCeramic%2BMugs&amp;usg=__xemF8--2uPks1rLzNPBZ1qfVARY=&amp;h=200&amp;w=200&amp;sz=4&amp;hl=en&amp;start=3&amp;um=1&amp;tbnid=rE6WqVoZ8euQFM:&amp;tbnh=104&amp;tbnw=104&amp;prev=/images%3Fq%3Dceramic%2Bmug%26hl%3Den%26rls%3Dcom.microsoft:en-us%26um%3D1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 Proper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Aluminum_Alloy_Nonstick_Frying_Pan_with_Lid" descr=""/>
          <p:cNvPicPr/>
          <p:nvPr/>
        </p:nvPicPr>
        <p:blipFill>
          <a:blip r:embed="rId1"/>
          <a:srcRect l="0" t="11142" r="0" b="11142"/>
          <a:stretch/>
        </p:blipFill>
        <p:spPr>
          <a:xfrm>
            <a:off x="1708200" y="1828800"/>
            <a:ext cx="251460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60" y="6477120"/>
            <a:ext cx="49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chiphi-pi.org/b2b/pics/Aluminum_Alloy_Nonstick_Frying_Pan_with_Li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bbk12.org/Russell/images/shuttle_endeavour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huttle_endeavour" descr=""/>
          <p:cNvPicPr/>
          <p:nvPr/>
        </p:nvPicPr>
        <p:blipFill>
          <a:blip r:embed="rId3"/>
          <a:stretch/>
        </p:blipFill>
        <p:spPr>
          <a:xfrm>
            <a:off x="6019920" y="2705040"/>
            <a:ext cx="2184120" cy="3238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5160" y="152388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y do pans have non-metal hand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875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y is a space shuttle covered in ceramic ti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0120" y="393048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y is cement better in compression and string better in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all_of_string" descr=""/>
          <p:cNvPicPr/>
          <p:nvPr/>
        </p:nvPicPr>
        <p:blipFill>
          <a:blip r:embed="rId4"/>
          <a:stretch/>
        </p:blipFill>
        <p:spPr>
          <a:xfrm>
            <a:off x="3079800" y="4800600"/>
            <a:ext cx="1371600" cy="1312920"/>
          </a:xfrm>
          <a:prstGeom prst="rect">
            <a:avLst/>
          </a:prstGeom>
          <a:ln w="0">
            <a:noFill/>
          </a:ln>
        </p:spPr>
      </p:pic>
      <p:pic>
        <p:nvPicPr>
          <p:cNvPr id="104" name="p_profile-327-1" descr=""/>
          <p:cNvPicPr/>
          <p:nvPr/>
        </p:nvPicPr>
        <p:blipFill>
          <a:blip r:embed="rId5"/>
          <a:stretch/>
        </p:blipFill>
        <p:spPr>
          <a:xfrm>
            <a:off x="1765440" y="4648320"/>
            <a:ext cx="1238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s Test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Compressive Streng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The maximum compressive stress a material can withstand withou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Crushing or buckling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Failure depends on the material’s geometry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Euler buckling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Testing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1752480"/>
          <a:ext cx="1947600" cy="19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52480"/>
                    <a:ext cx="194760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120080" y="1754280"/>
          <a:ext cx="164304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0080" y="1754280"/>
                    <a:ext cx="16430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Buckled_column" descr="File:Buckled column.png"/>
          <p:cNvPicPr/>
          <p:nvPr/>
        </p:nvPicPr>
        <p:blipFill>
          <a:blip r:embed="rId5"/>
          <a:stretch/>
        </p:blipFill>
        <p:spPr>
          <a:xfrm>
            <a:off x="6019920" y="3962520"/>
            <a:ext cx="19238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s Test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362268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iss"/>
              </a:rPr>
              <a:t>Fracture Strength:</a:t>
            </a: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Bendi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What’s going on in the center of the materia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Lab: Measure deflection of spaghetti under a given lo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Tensile Streng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Lab: Measure fracture strength of sample under ten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1719360"/>
          <a:ext cx="335304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19360"/>
                    <a:ext cx="33530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700600" y="1676520"/>
          <a:ext cx="2452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00600" y="1676520"/>
                    <a:ext cx="2452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py V-notch T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gh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ance to fracture of a material when stressed (defined as area under stress-strain cur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nergy absorbed in 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es material as either brittle or duc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tle: absorbs small amount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tile: absorbs large amount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jk71f2" descr=""/>
          <p:cNvPicPr/>
          <p:nvPr/>
        </p:nvPicPr>
        <p:blipFill>
          <a:blip r:embed="rId1"/>
          <a:stretch/>
        </p:blipFill>
        <p:spPr>
          <a:xfrm>
            <a:off x="6172200" y="2778120"/>
            <a:ext cx="2857680" cy="3622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7160" y="661356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wi.co.uk/twiimages/jk71f2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5257800"/>
          <a:ext cx="468612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257800"/>
                    <a:ext cx="4686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Bliss"/>
              </a:rPr>
              <a:t>Material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600200"/>
            <a:ext cx="626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nding/Materi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lk Materi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43600" y="1600200"/>
            <a:ext cx="31240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76320"/>
            <a:ext cx="2666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Bliss"/>
              </a:rPr>
              <a:t>Solid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2514600"/>
            <a:ext cx="5638680" cy="44517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1. Crystals/Metal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Fe, Cu, Al, quart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Atoms and molecules are systematically arranged during soli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2. Glasses and Ceramic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sand, brick, window gla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High viscosity during solidification prevents crystal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3. Polymer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rubber, plastics, DNA, protei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Long chains of simple molecular struc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4. Composite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plywood, cement and reb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Use of two or more materials to obtain desired 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engineering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210main" descr="[Photo: Various Crystals]"/>
          <p:cNvPicPr/>
          <p:nvPr/>
        </p:nvPicPr>
        <p:blipFill>
          <a:blip r:embed="rId1"/>
          <a:stretch/>
        </p:blipFill>
        <p:spPr>
          <a:xfrm>
            <a:off x="2819520" y="22860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1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98280"/>
            <a:ext cx="1447560" cy="96840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487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dna_500" descr=""/>
          <p:cNvPicPr/>
          <p:nvPr/>
        </p:nvPicPr>
        <p:blipFill>
          <a:blip r:embed="rId6"/>
          <a:stretch/>
        </p:blipFill>
        <p:spPr>
          <a:xfrm>
            <a:off x="6095880" y="1676520"/>
            <a:ext cx="182880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drop-plastic-bottle-collect" descr=""/>
          <p:cNvPicPr/>
          <p:nvPr/>
        </p:nvPicPr>
        <p:blipFill>
          <a:blip r:embed="rId7"/>
          <a:stretch/>
        </p:blipFill>
        <p:spPr>
          <a:xfrm>
            <a:off x="7086600" y="249408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116" name="800px-Plywood" descr="File:Plywood.jpg"/>
          <p:cNvPicPr/>
          <p:nvPr/>
        </p:nvPicPr>
        <p:blipFill>
          <a:blip r:embed="rId8"/>
          <a:srcRect l="0" t="0" r="20700" b="0"/>
          <a:stretch/>
        </p:blipFill>
        <p:spPr>
          <a:xfrm>
            <a:off x="5943600" y="4645080"/>
            <a:ext cx="12952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Rebar-Tools-Home-big" descr=""/>
          <p:cNvPicPr/>
          <p:nvPr/>
        </p:nvPicPr>
        <p:blipFill>
          <a:blip r:embed="rId9"/>
          <a:stretch/>
        </p:blipFill>
        <p:spPr>
          <a:xfrm>
            <a:off x="7326360" y="4114800"/>
            <a:ext cx="1665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tomic Struc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atom look like and what are its compon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re the electrons shells compared to the 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tomic Structur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1) Com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A) Nucleus: protons(+) and neutrons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B) Electrons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2) 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liss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m across = 0.000000000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3) Neutral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#electrons = #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4) Electrons orbit around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5) Reactivity with other atoms depends on # of electrons in outermost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6) Electrons in outermost shell are called “valence”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atom-bohr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8497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Bond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181840" cy="45309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Primary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Ionic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transfer of electrons between metal and non-metal ion (NaCl and ceram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Covalent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localized sharing of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(ceramics, diamond, glass,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Metallic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delocalized sharing of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(met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Secondary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Van der Waals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weak forces that attract neutral molecules to another other in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Hydrogen Bonding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attractive force between molecules arising from the interaction between hydrogen atom and N, O, 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onic_bonding" descr="Ionic Bonding"/>
          <p:cNvPicPr/>
          <p:nvPr/>
        </p:nvPicPr>
        <p:blipFill>
          <a:blip r:embed="rId1"/>
          <a:stretch/>
        </p:blipFill>
        <p:spPr>
          <a:xfrm>
            <a:off x="5486400" y="241200"/>
            <a:ext cx="3274920" cy="1435320"/>
          </a:xfrm>
          <a:prstGeom prst="rect">
            <a:avLst/>
          </a:prstGeom>
          <a:ln w="0">
            <a:noFill/>
          </a:ln>
        </p:spPr>
      </p:pic>
      <p:pic>
        <p:nvPicPr>
          <p:cNvPr id="126" name="covalent_bonding" descr="Covalent Bonding"/>
          <p:cNvPicPr/>
          <p:nvPr/>
        </p:nvPicPr>
        <p:blipFill>
          <a:blip r:embed="rId2"/>
          <a:stretch/>
        </p:blipFill>
        <p:spPr>
          <a:xfrm>
            <a:off x="6172200" y="1905120"/>
            <a:ext cx="2030400" cy="139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93080" y="6615000"/>
            <a:ext cx="37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ider.herts.ac.uk/school/courseware/materials/bonding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627px-Diamond_and_graphite" descr="File:Diamond and graphite.jpg"/>
          <p:cNvPicPr/>
          <p:nvPr/>
        </p:nvPicPr>
        <p:blipFill>
          <a:blip r:embed="rId3"/>
          <a:srcRect l="0" t="9600" r="0" b="0"/>
          <a:stretch/>
        </p:blipFill>
        <p:spPr>
          <a:xfrm>
            <a:off x="5867280" y="3733920"/>
            <a:ext cx="274320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32560" y="6461280"/>
            <a:ext cx="26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nh.si.edu/earth/text/2_2_2_4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n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6782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are metals ductile and ionic solid (ceramics) britt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a material react to pushing or pu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How do atoms react to pushing or pu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4419720" cy="2133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s, paper clip, silly pu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ooke-definitions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61040" cy="1865160"/>
          </a:xfrm>
          <a:prstGeom prst="rect">
            <a:avLst/>
          </a:prstGeom>
          <a:ln w="0">
            <a:noFill/>
          </a:ln>
        </p:spPr>
      </p:pic>
      <p:pic>
        <p:nvPicPr>
          <p:cNvPr id="134" name="fracture_1" descr=""/>
          <p:cNvPicPr/>
          <p:nvPr/>
        </p:nvPicPr>
        <p:blipFill>
          <a:blip r:embed="rId2"/>
          <a:stretch/>
        </p:blipFill>
        <p:spPr>
          <a:xfrm>
            <a:off x="5257800" y="3429000"/>
            <a:ext cx="3565440" cy="3279600"/>
          </a:xfrm>
          <a:prstGeom prst="rect">
            <a:avLst/>
          </a:prstGeom>
          <a:ln w="0">
            <a:noFill/>
          </a:ln>
        </p:spPr>
      </p:pic>
      <p:pic>
        <p:nvPicPr>
          <p:cNvPr id="135" name="fracture_2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3980160" cy="168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7800" y="60958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 Proper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ess-Strain Cur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stress-strain curve look like for a ceramic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for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temperature affect the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2:49:14Z</dcterms:created>
  <dc:creator>Su</dc:creator>
  <dc:description/>
  <dc:language>en-US</dc:language>
  <cp:lastModifiedBy>Su</cp:lastModifiedBy>
  <dcterms:modified xsi:type="dcterms:W3CDTF">2009-06-30T12:28:25Z</dcterms:modified>
  <cp:revision>13</cp:revision>
  <dc:subject/>
  <dc:title>Materials</dc:title>
</cp:coreProperties>
</file>